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ct" ContentType="image/x-pict"/>
  <Override PartName="/ppt/media/image9.png" ContentType="image/png"/>
  <Override PartName="/ppt/media/image7.pct" ContentType="image/x-pict"/>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1FFA-A196-427B-94B5-35263BDAC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F325-9D86-4FD0-8AB2-68037C448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ts the onus on the participants. They construct their own knowledge rather than being told an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t ideas should definitely be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ow a strategy like this is excellent for assessment for learning.</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5664-BF44-40DE-9817-8FC732102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ttle icon on the right suggests that this is a good time for leaders to do different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this Frayer model is in the Think Literacy document. Leaders might make their staff familiar with these valuable documents and others on the Ministry website.</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75C5-50DD-449F-9A55-D652EE3C9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NCTM publication says as the big idea– When two quantities are related proportionally, the ratio of one quantity to the other is invariant as the numerical values of both quantities change by the sam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the working definition for the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ight want to write it on their own Frayer models.</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96CF-21E7-45B5-8530-A93C30757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xt few slides are meant to help clarify what proportional thinking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re alway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 is the alternate representation of ½ as 18/36 that helps this thinking happen– this will become clear as a big idea later on. The proportionality is in thinking of 18 as a part of 37 instead of as 19 less than 37.</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BDBB-AF7A-4556-9CDE-FC1BA4146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ing an earlier idea after more examples have been given is a good teaching strategy- this could be pointed out.</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F3C5-AA56-4669-93F1-0DFBC6986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example may be difficult for primary/junior teachers, but is important for intermediate/secondary teachers to see. The language is simplified as much as possible to make it accessible to all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here is realizing that y = 3x + 2 is pretty much the same as y = 3x when x is big  (not when x is near 0). This is an important understanding about linear relations and emphasizes why slope is what matters most when x is far from 0.</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1635-C936-4731-9735-20FE46982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reat website at the University of Maryland with lots of Fermi problems. These problems are named for Enrico Fermi (physicist in first half of the 20</a:t>
            </a:r>
            <a:r>
              <a:rPr b="0" lang="en-US" sz="1200" spc="-1" strike="noStrike" baseline="30000">
                <a:solidFill>
                  <a:srgbClr val="000000"/>
                </a:solidFill>
                <a:latin typeface="Arial"/>
              </a:rPr>
              <a:t>th</a:t>
            </a:r>
            <a:r>
              <a:rPr b="0" lang="en-US" sz="1200" spc="-1" strike="noStrike">
                <a:solidFill>
                  <a:srgbClr val="000000"/>
                </a:solidFill>
                <a:latin typeface="Arial"/>
              </a:rPr>
              <a:t> century) and always involve estimation involving large (or really small) numbers. Most problems involve proportionality. For example, here, we take a sample and extrapolate linearly. If, for example, we find out the number in our school and multiply by the equivalent of the number of schools of equal size. If we make adjustments, e.g. these were young kids and ate less, we are not proportional anymore.</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1A3E-B90D-4037-A992-FAB7A9B7C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portions are not proportional thinking. Many secondary teachers equate these two ideas. A proportion is a statement of equality of two ratios; you can solve proportions mechanically without doing any proportion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end not to use the word proportional until high school, but then we do talk about variables being proportional, inversely proportional, etc.</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9E6B-12FC-4892-BFF5-C019E2D30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definition (which might be viewed as an example more than a definition)  is what a student might call a definition. We should encourage and not discourage this sort of personal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gain.  Mention how important it is for teachers to respond to students’ thinking rather than imposing their own thinking on students. This example of a definition that is student constructed does that.</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C666-5319-4FEC-9AB8-9E77E1870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finitions should be familiar to most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sterisk beside the word rate since not all mathematicians view rates as different than ratios.</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6602-BB39-4BBC-84D2-2513B51B6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etting acquainted activities are meant to set up mini-proportional reasoning situations in a VERY safe way.</a:t>
            </a:r>
            <a:endParaRPr b="0" lang="en-US" sz="12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BB77-B708-4DCA-BDB0-6810B6C9D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mpt for participants to talk to others near them and to try to summarize why they think proportional reasoning is an important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opportunity to hear from a few groups about what they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y should be thinking through the week about how this does or doesn’t change for them.</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0E23-E98B-4A81-80B5-6CA943759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not have enough experience to speak to this, so the leader needs to talk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arallel between big ideas and the mathematical processes (the big ideas are the content equivalent of the processes)– they are the enduring understandings that we revisit in many guises through th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ig ideas allow students to make connections, which is what learning is buil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oint out how big ideas can help the teacher make connections too.</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56BF-308A-4C87-8EC0-69EDC8DA9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e list of big ideas i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based on the resources Big Ideas from Dr. Small, published by Nelson, and are Marian Small’s view of the big ideas.  There are others who have listed big ideas, too, but these are the ones being used this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s listed come from different strands (although mostly number) and were selected because of their relevance to proportional reasoning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ll notice is that they are not just topic names or definitions, but ideas about what students focus on in their mathematical learning.</a:t>
            </a: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3290-F48F-41F6-8E1D-58A318616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three sets of matching questions are handed out. Junior teachers can choose either the PJ or JI questions and intermediate teachers either the JI or IS, as they w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purpose of the activity is to help give meaning to the big ideas stated i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At this point, have leaders circulate informally among other groups to listen in. About 5-10 minutes before reconvening, ask leaders to go back to their group and discuss this question: We tried to make sense of the big ideas for participants by having them do this matching exercise. When you introduce new policies, documents, etc. to your staffs, what kinds of actions do you or should you take to give meaning to those new materials? For example, to give your teachers a sense of the Growing Success document,  could you do some sort of matching activity or concept attainment activity to synthesize the most important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1AF3-CBFD-4E0A-8003-E978AE0D3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can be done orally, but might be better done if each participant writes down a maximum of 2-3 sentences and discusses with a partner.</a:t>
            </a: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A3C9-E5A8-4D3A-836F-261B4DFC6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EC27-1264-4C25-8A2A-384A185BC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AC7E-4353-48B0-9577-D1B15C24C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nds=on is designed to build on participants’ comfort with the idea of rate, but create an interesting situation by asking them to be unique. Possibilities might include “per diem, pay per view. Bytes per second (for downloads), etc. </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E416-B90F-4A74-9A32-5FA46B0B2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4E63-A507-4A68-B58E-C5D7EEA80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icture would work. These were simply mathematically cute. The people pictures are a bit easier to use, so they are used in the sense of “solving a similar problem”- sort of a scaffold.  The 4 x 7 pictures are held back and are just offered as a scaffold for those who find it difficult to decide whether the pictures are or aren’t the same. Rulers might be helpful.</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1FCD-713A-4546-96D9-C113493FE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only one option-. We are modelling choice as a pedagogical strategy  by allowing participants to choos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icularly interesting since some will say that  Lot A is more full since there are fewer free spaces than in Lot B.  Others will say that Lot B is more full since 56 out of 80 is a higher proportion that 24 out of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visual but both problems are presented on the next slide.</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E2B1-E6B2-4005-852C-0DF814454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2 again poses a dilemma. Group A grew by fewer people, but it more than doubled whereas Group B did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lemmas are important teaching tools. They point out the ambiguity of language and the need to be clear about what we want, but they also allow different students to be correct for different reasons.</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7588-8C4F-4662-9713-BE7E42F5C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BF3EF-3C00-466B-AB22-B852BEF82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3288-0114-4C0D-BD09-4FB88D9E7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3ECC9-87F8-4476-89C1-A0AEE09AF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CD352-6FBC-4622-B558-26AB7F73F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EB32-A2D5-445D-9E48-60105B67D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D45A-4EE3-47BA-BDD7-AA25BE92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EE4C0-B447-41DB-8849-2FBDE6143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D2C79-727F-4693-A120-6D1E4BEA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D98C-9834-4F11-BC85-DD50CC45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8501-B994-4784-BE91-291B361EA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2FB9-E018-43BE-998A-1C6C77BD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3306-E0DA-4316-B8F6-056C260BC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D880-D3BB-4FD8-9FC5-837889E9236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
          <p:cNvSpPr txBox="1"/>
          <p:nvPr/>
        </p:nvSpPr>
        <p:spPr>
          <a:xfrm>
            <a:off x="457200" y="2590920"/>
            <a:ext cx="8229600" cy="3962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both an </a:t>
            </a:r>
            <a:r>
              <a:rPr b="1" lang="en-US" sz="3600" spc="-1" strike="noStrike">
                <a:solidFill>
                  <a:srgbClr val="000000"/>
                </a:solidFill>
                <a:latin typeface="Arial"/>
              </a:rPr>
              <a:t>example </a:t>
            </a:r>
            <a:r>
              <a:rPr b="0" lang="en-US" sz="3600" spc="-1" strike="noStrike">
                <a:solidFill>
                  <a:srgbClr val="000000"/>
                </a:solidFill>
                <a:latin typeface="Arial"/>
              </a:rPr>
              <a:t>and a     </a:t>
            </a:r>
            <a:r>
              <a:rPr b="1" lang="en-US" sz="3600" spc="-1" strike="noStrike">
                <a:solidFill>
                  <a:srgbClr val="000000"/>
                </a:solidFill>
                <a:latin typeface="Arial"/>
              </a:rPr>
              <a:t>non-example</a:t>
            </a:r>
            <a:r>
              <a:rPr b="0" lang="en-US" sz="3600" spc="-1" strike="noStrike">
                <a:solidFill>
                  <a:srgbClr val="000000"/>
                </a:solidFill>
                <a:latin typeface="Arial"/>
              </a:rPr>
              <a:t> of proportional reaso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y to use different contexts than you just saw.</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is 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75" name="Picture 3" descr="2.jpg"/>
          <p:cNvPicPr/>
          <p:nvPr/>
        </p:nvPicPr>
        <p:blipFill>
          <a:blip r:embed="rId1"/>
          <a:stretch/>
        </p:blipFill>
        <p:spPr>
          <a:xfrm>
            <a:off x="1924200" y="0"/>
            <a:ext cx="5295600" cy="6858000"/>
          </a:xfrm>
          <a:prstGeom prst="rect">
            <a:avLst/>
          </a:prstGeom>
          <a:ln w="0">
            <a:noFill/>
          </a:ln>
        </p:spPr>
      </p:pic>
      <p:sp>
        <p:nvSpPr>
          <p:cNvPr id="76" name="Rectangle 4"/>
          <p:cNvSpPr/>
          <p:nvPr/>
        </p:nvSpPr>
        <p:spPr>
          <a:xfrm>
            <a:off x="2438280" y="1981080"/>
            <a:ext cx="1752840" cy="1676520"/>
          </a:xfrm>
          <a:prstGeom prst="rect">
            <a:avLst/>
          </a:prstGeom>
          <a:solidFill>
            <a:srgbClr val="9c9cdf">
              <a:alpha val="38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Box 5"/>
          <p:cNvSpPr/>
          <p:nvPr/>
        </p:nvSpPr>
        <p:spPr>
          <a:xfrm>
            <a:off x="2514600" y="259092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N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a:t>
            </a:r>
            <a:endParaRPr b="0" lang="en-US" sz="1800" spc="-1" strike="noStrike">
              <a:solidFill>
                <a:srgbClr val="000000"/>
              </a:solidFill>
              <a:latin typeface="Arial"/>
            </a:endParaRPr>
          </a:p>
        </p:txBody>
      </p:sp>
      <p:pic>
        <p:nvPicPr>
          <p:cNvPr id="78" name="Picture 6" descr="leadership thing.png"/>
          <p:cNvPicPr/>
          <p:nvPr/>
        </p:nvPicPr>
        <p:blipFill>
          <a:blip r:embed="rId2"/>
          <a:stretch/>
        </p:blipFill>
        <p:spPr>
          <a:xfrm>
            <a:off x="7543800" y="2368440"/>
            <a:ext cx="1344600" cy="106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9"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ortional reasoning involves the </a:t>
            </a:r>
            <a:r>
              <a:rPr b="1" lang="en-US" sz="3600" spc="-1" strike="noStrike">
                <a:solidFill>
                  <a:srgbClr val="000000"/>
                </a:solidFill>
                <a:latin typeface="Arial"/>
              </a:rPr>
              <a:t>deliberate use of multiplicative relationships </a:t>
            </a:r>
            <a:r>
              <a:rPr b="0" lang="en-US" sz="3600" spc="-1" strike="noStrike">
                <a:solidFill>
                  <a:srgbClr val="000000"/>
                </a:solidFill>
                <a:latin typeface="Arial"/>
              </a:rPr>
              <a:t>to compare quantities and to predict the value of one quantity based on the values of anot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Proportional reasoning</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1" name=""/>
          <p:cNvSpPr txBox="1"/>
          <p:nvPr/>
        </p:nvSpPr>
        <p:spPr>
          <a:xfrm>
            <a:off x="457200" y="2819520"/>
            <a:ext cx="8229600" cy="32004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decide that        is a bit less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an      since 18 is just less than half </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f 37, you are using proportional reason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2" name="PlaceHolder 1"/>
          <p:cNvSpPr>
            <a:spLocks noGrp="1"/>
          </p:cNvSpPr>
          <p:nvPr>
            <p:ph type="title"/>
          </p:nvPr>
        </p:nvSpPr>
        <p:spPr>
          <a:xfrm>
            <a:off x="457200" y="9140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graphicFrame>
        <p:nvGraphicFramePr>
          <p:cNvPr id="83" name=""/>
          <p:cNvGraphicFramePr/>
          <p:nvPr/>
        </p:nvGraphicFramePr>
        <p:xfrm>
          <a:off x="5562720" y="2743200"/>
          <a:ext cx="457200" cy="838080"/>
        </p:xfrm>
        <a:graphic>
          <a:graphicData uri="http://schemas.openxmlformats.org/presentationml/2006/ole">
            <p:oleObj r:id="rId1" spid="">
              <p:embed/>
              <p:pic>
                <p:nvPicPr>
                  <p:cNvPr id="84" name="" descr=""/>
                  <p:cNvPicPr/>
                  <p:nvPr/>
                </p:nvPicPr>
                <p:blipFill>
                  <a:blip r:embed="rId2"/>
                  <a:stretch/>
                </p:blipFill>
                <p:spPr>
                  <a:xfrm>
                    <a:off x="5562720" y="2743200"/>
                    <a:ext cx="457200" cy="838080"/>
                  </a:xfrm>
                  <a:prstGeom prst="rect">
                    <a:avLst/>
                  </a:prstGeom>
                  <a:ln w="0">
                    <a:noFill/>
                  </a:ln>
                </p:spPr>
              </p:pic>
            </p:oleObj>
          </a:graphicData>
        </a:graphic>
      </p:graphicFrame>
      <p:graphicFrame>
        <p:nvGraphicFramePr>
          <p:cNvPr id="85" name=""/>
          <p:cNvGraphicFramePr/>
          <p:nvPr/>
        </p:nvGraphicFramePr>
        <p:xfrm>
          <a:off x="1905120" y="3429000"/>
          <a:ext cx="380880" cy="838080"/>
        </p:xfrm>
        <a:graphic>
          <a:graphicData uri="http://schemas.openxmlformats.org/presentationml/2006/ole">
            <p:oleObj r:id="rId3" spid="">
              <p:embed/>
              <p:pic>
                <p:nvPicPr>
                  <p:cNvPr id="86" name="" descr=""/>
                  <p:cNvPicPr/>
                  <p:nvPr/>
                </p:nvPicPr>
                <p:blipFill>
                  <a:blip r:embed="rId4"/>
                  <a:stretch/>
                </p:blipFill>
                <p:spPr>
                  <a:xfrm>
                    <a:off x="1905120" y="3429000"/>
                    <a:ext cx="38088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7" name=""/>
          <p:cNvSpPr txBox="1"/>
          <p:nvPr/>
        </p:nvSpPr>
        <p:spPr>
          <a:xfrm>
            <a:off x="457200" y="2971800"/>
            <a:ext cx="8229600" cy="3657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decide that an increase from 1 to 5 is more significant than an increase from 96 to 106 because the percent increase is much more substantial, you are using proportional reasoning.</a:t>
            </a:r>
            <a:endParaRPr b="0" lang="en-US" sz="3600" spc="-1" strike="noStrike">
              <a:solidFill>
                <a:srgbClr val="000000"/>
              </a:solidFill>
              <a:latin typeface="Arial"/>
            </a:endParaRPr>
          </a:p>
        </p:txBody>
      </p:sp>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9" name=""/>
          <p:cNvSpPr txBox="1"/>
          <p:nvPr/>
        </p:nvSpPr>
        <p:spPr>
          <a:xfrm>
            <a:off x="457200" y="2666880"/>
            <a:ext cx="822960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se y = 3x + 2.</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you realize that if you multiply x by 100, you almost, but not quite, multiply y by 100, you are using proportional reason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a:t>
            </a:r>
            <a:endParaRPr b="0" lang="en-US" sz="6000" spc="-1" strike="noStrike">
              <a:solidFill>
                <a:srgbClr val="0d469b"/>
              </a:solidFill>
              <a:latin typeface="Arial"/>
            </a:endParaRPr>
          </a:p>
        </p:txBody>
      </p:sp>
      <p:graphicFrame>
        <p:nvGraphicFramePr>
          <p:cNvPr id="91" name=""/>
          <p:cNvGraphicFramePr/>
          <p:nvPr/>
        </p:nvGraphicFramePr>
        <p:xfrm>
          <a:off x="419040" y="5638680"/>
          <a:ext cx="8305920" cy="1036800"/>
        </p:xfrm>
        <a:graphic>
          <a:graphicData uri="http://schemas.openxmlformats.org/drawingml/2006/table">
            <a:tbl>
              <a:tblPr/>
              <a:tblGrid>
                <a:gridCol w="1038240"/>
                <a:gridCol w="1038240"/>
                <a:gridCol w="1038240"/>
                <a:gridCol w="1038240"/>
                <a:gridCol w="1038240"/>
                <a:gridCol w="1038240"/>
                <a:gridCol w="1038240"/>
                <a:gridCol w="1038240"/>
              </a:tblGrid>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4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6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6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9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20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
          <p:cNvSpPr txBox="1"/>
          <p:nvPr/>
        </p:nvSpPr>
        <p:spPr>
          <a:xfrm>
            <a:off x="457200" y="2666880"/>
            <a:ext cx="8229600" cy="3657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3600" spc="-1" strike="noStrike">
                <a:solidFill>
                  <a:srgbClr val="000000"/>
                </a:solidFill>
                <a:latin typeface="Arial"/>
              </a:rPr>
              <a:t>A Fermi problem,</a:t>
            </a:r>
            <a:r>
              <a:rPr b="0" lang="en-US" sz="3600" spc="-1" strike="noStrike">
                <a:solidFill>
                  <a:srgbClr val="000000"/>
                </a:solidFill>
                <a:latin typeface="Arial"/>
              </a:rPr>
              <a:t> e.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stimate the number of square centimetres of pizza that all of the students in Toronto eat in one week.</a:t>
            </a:r>
            <a:endParaRPr b="0" lang="en-US" sz="3600" spc="-1" strike="noStrike">
              <a:solidFill>
                <a:srgbClr val="000000"/>
              </a:solidFill>
              <a:latin typeface="Arial"/>
            </a:endParaRPr>
          </a:p>
        </p:txBody>
      </p:sp>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of proportional reasoning (maybe)</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r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ortional:</a:t>
            </a:r>
            <a:r>
              <a:rPr b="0" lang="en-US" sz="3600" spc="-1" strike="noStrike">
                <a:solidFill>
                  <a:srgbClr val="000000"/>
                </a:solidFill>
                <a:latin typeface="Arial"/>
              </a:rPr>
              <a:t> Two variables are proportional if the values of one are a constant multiple of the corresponding values of the oth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pic>
        <p:nvPicPr>
          <p:cNvPr id="96" name="Picture 3" descr="Screen shot 2010-07-16 at 2.18.08 PM.png"/>
          <p:cNvPicPr/>
          <p:nvPr/>
        </p:nvPicPr>
        <p:blipFill>
          <a:blip r:embed="rId1"/>
          <a:stretch/>
        </p:blipFill>
        <p:spPr>
          <a:xfrm>
            <a:off x="3657600" y="2057400"/>
            <a:ext cx="4140360" cy="83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pic>
        <p:nvPicPr>
          <p:cNvPr id="99" name="Picture 3" descr="Screen shot 2010-07-16 at 2.18.58 PM.png"/>
          <p:cNvPicPr/>
          <p:nvPr/>
        </p:nvPicPr>
        <p:blipFill>
          <a:blip r:embed="rId1"/>
          <a:stretch/>
        </p:blipFill>
        <p:spPr>
          <a:xfrm>
            <a:off x="1866960" y="2895480"/>
            <a:ext cx="5410080" cy="3443400"/>
          </a:xfrm>
          <a:prstGeom prst="rect">
            <a:avLst/>
          </a:prstGeom>
          <a:ln w="0">
            <a:noFill/>
          </a:ln>
        </p:spPr>
      </p:pic>
      <p:pic>
        <p:nvPicPr>
          <p:cNvPr id="100" name="Picture 5" descr="leadership thing.png"/>
          <p:cNvPicPr/>
          <p:nvPr/>
        </p:nvPicPr>
        <p:blipFill>
          <a:blip r:embed="rId2"/>
          <a:stretch/>
        </p:blipFill>
        <p:spPr>
          <a:xfrm>
            <a:off x="7391520" y="1981080"/>
            <a:ext cx="1536480" cy="121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e:</a:t>
            </a:r>
            <a:r>
              <a:rPr b="0" lang="en-US" sz="3600" spc="-1" strike="noStrike">
                <a:solidFill>
                  <a:srgbClr val="000000"/>
                </a:solidFill>
                <a:latin typeface="Arial"/>
              </a:rPr>
              <a:t> A comparison of two values with different uni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cent: </a:t>
            </a:r>
            <a:r>
              <a:rPr b="0" lang="en-US" sz="3600" spc="-1" strike="noStrike">
                <a:solidFill>
                  <a:srgbClr val="000000"/>
                </a:solidFill>
                <a:latin typeface="Arial"/>
              </a:rPr>
              <a:t>A ratio with a second term of 100</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ome other definitions </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I won’t tell you for wh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years have you tau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taught about twice as many years?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
          <p:cNvSpPr txBox="1"/>
          <p:nvPr/>
        </p:nvSpPr>
        <p:spPr>
          <a:xfrm>
            <a:off x="533520" y="2133360"/>
            <a:ext cx="8229600" cy="47242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is it important?</a:t>
            </a:r>
            <a:endParaRPr b="0" lang="en-US" sz="4800" spc="-1" strike="noStrike">
              <a:solidFill>
                <a:srgbClr val="000000"/>
              </a:solidFill>
              <a:latin typeface="Arial"/>
            </a:endParaRPr>
          </a:p>
        </p:txBody>
      </p:sp>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roportional reaso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
          <p:cNvSpPr txBox="1"/>
          <p:nvPr/>
        </p:nvSpPr>
        <p:spPr>
          <a:xfrm>
            <a:off x="533520" y="2133360"/>
            <a:ext cx="8229600" cy="47242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useful?</a:t>
            </a:r>
            <a:endParaRPr b="0" lang="en-US" sz="4400" spc="-1" strike="noStrike">
              <a:solidFill>
                <a:srgbClr val="000000"/>
              </a:solidFill>
              <a:latin typeface="Arial"/>
            </a:endParaRPr>
          </a:p>
        </p:txBody>
      </p:sp>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
          <p:cNvSpPr txBox="1"/>
          <p:nvPr/>
        </p:nvSpPr>
        <p:spPr>
          <a:xfrm>
            <a:off x="533520" y="2819160"/>
            <a:ext cx="8229600" cy="28191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st of big ideas we will be using is listed in your program.</a:t>
            </a:r>
            <a:endParaRPr b="0" lang="en-US" sz="4400" spc="-1" strike="noStrike">
              <a:solidFill>
                <a:srgbClr val="000000"/>
              </a:solidFill>
              <a:latin typeface="Arial"/>
            </a:endParaRPr>
          </a:p>
        </p:txBody>
      </p:sp>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Big ideas relevant to proportional reasoning</a:t>
            </a:r>
            <a:endParaRPr b="0" lang="en-US" sz="48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
          <p:cNvSpPr txBox="1"/>
          <p:nvPr/>
        </p:nvSpPr>
        <p:spPr>
          <a:xfrm>
            <a:off x="533520" y="2133360"/>
            <a:ext cx="8229600" cy="472428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ch the provided questions in your grade band (PJ, JI, IS)  to the big ideas.</a:t>
            </a:r>
            <a:endParaRPr b="0" lang="en-US" sz="4400" spc="-1" strike="noStrike">
              <a:solidFill>
                <a:srgbClr val="000000"/>
              </a:solidFill>
              <a:latin typeface="Arial"/>
            </a:endParaRPr>
          </a:p>
        </p:txBody>
      </p:sp>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Matching activity</a:t>
            </a:r>
            <a:endParaRPr b="0" lang="en-US" sz="6000" spc="-1" strike="noStrike">
              <a:solidFill>
                <a:srgbClr val="0d469b"/>
              </a:solidFill>
              <a:latin typeface="Arial"/>
            </a:endParaRPr>
          </a:p>
        </p:txBody>
      </p:sp>
      <p:pic>
        <p:nvPicPr>
          <p:cNvPr id="111" name="Picture 3" descr="leadership thing.png"/>
          <p:cNvPicPr/>
          <p:nvPr/>
        </p:nvPicPr>
        <p:blipFill>
          <a:blip r:embed="rId1"/>
          <a:stretch/>
        </p:blipFill>
        <p:spPr>
          <a:xfrm>
            <a:off x="7391520" y="4038480"/>
            <a:ext cx="1536480" cy="1212840"/>
          </a:xfrm>
          <a:prstGeom prst="rect">
            <a:avLst/>
          </a:prstGeom>
          <a:ln w="0">
            <a:noFill/>
          </a:ln>
        </p:spPr>
      </p:pic>
      <p:sp>
        <p:nvSpPr>
          <p:cNvPr id="112" name="Heptagon 4"/>
          <p:cNvSpPr/>
          <p:nvPr/>
        </p:nvSpPr>
        <p:spPr>
          <a:xfrm>
            <a:off x="8534520" y="4952880"/>
            <a:ext cx="304560" cy="30492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
          <p:cNvSpPr txBox="1"/>
          <p:nvPr/>
        </p:nvSpPr>
        <p:spPr>
          <a:xfrm>
            <a:off x="533520" y="2133360"/>
            <a:ext cx="8229600" cy="47242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Complete: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is point, I think the value of focusing on the same big ideas in proportional reasoning K-12 might be that…..</a:t>
            </a:r>
            <a:endParaRPr b="0" lang="en-US" sz="4000" spc="-1" strike="noStrike">
              <a:solidFill>
                <a:srgbClr val="000000"/>
              </a:solidFill>
              <a:latin typeface="Arial"/>
            </a:endParaRPr>
          </a:p>
        </p:txBody>
      </p:sp>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flectio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you please stand 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someone who is about 10% taller. Who are you?</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need a volunte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kilometres did you drive or fly to get her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came from about half as f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Getting acquainted</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ay “kilometres </a:t>
            </a:r>
            <a:r>
              <a:rPr b="1" lang="en-US" sz="3600" spc="-1" strike="noStrike">
                <a:solidFill>
                  <a:srgbClr val="000000"/>
                </a:solidFill>
                <a:latin typeface="Arial"/>
              </a:rPr>
              <a:t>per</a:t>
            </a:r>
            <a:r>
              <a:rPr b="0" lang="en-US" sz="3600" spc="-1" strike="noStrike">
                <a:solidFill>
                  <a:srgbClr val="000000"/>
                </a:solidFill>
                <a:latin typeface="Arial"/>
              </a:rPr>
              <a:t> hour” to talk about speed or “</a:t>
            </a:r>
            <a:r>
              <a:rPr b="1" lang="en-US" sz="3600" spc="-1" strike="noStrike">
                <a:solidFill>
                  <a:srgbClr val="000000"/>
                </a:solidFill>
                <a:latin typeface="Arial"/>
              </a:rPr>
              <a:t>per </a:t>
            </a:r>
            <a:r>
              <a:rPr b="0" lang="en-US" sz="3600" spc="-1" strike="noStrike">
                <a:solidFill>
                  <a:srgbClr val="000000"/>
                </a:solidFill>
                <a:latin typeface="Arial"/>
              </a:rPr>
              <a:t> capita” to describe economic or social dat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could talk about  “good deeds </a:t>
            </a:r>
            <a:r>
              <a:rPr b="1" lang="en-US" sz="3600" spc="-1" strike="noStrike">
                <a:solidFill>
                  <a:srgbClr val="000000"/>
                </a:solidFill>
                <a:latin typeface="Arial"/>
              </a:rPr>
              <a:t>per</a:t>
            </a:r>
            <a:r>
              <a:rPr b="0" lang="en-US" sz="3600" spc="-1" strike="noStrike">
                <a:solidFill>
                  <a:srgbClr val="000000"/>
                </a:solidFill>
                <a:latin typeface="Arial"/>
              </a:rPr>
              <a:t> day” to describe how thoughtful someone 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t’s think about rate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up your own situation that uses “per”, but try to make it uniq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reate a related problem someone else might solve based on your ide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t’s think about rate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the 4 x 6 and 5 x 7 “pi pie” pictures that were distribute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 pictures exactly alike, except for siz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bout the 4 x 6 and 5 x 7 stick people pictur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hoto problem</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oice 1:</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e a problem</a:t>
            </a:r>
            <a:endParaRPr b="0" lang="en-US" sz="6000" spc="-1" strike="noStrike">
              <a:solidFill>
                <a:srgbClr val="0d469b"/>
              </a:solidFill>
              <a:latin typeface="Arial"/>
            </a:endParaRPr>
          </a:p>
        </p:txBody>
      </p:sp>
      <p:pic>
        <p:nvPicPr>
          <p:cNvPr id="66" name="Picture 4" descr="Screen shot 2010-07-15 at 2.29.36 PM.png"/>
          <p:cNvPicPr/>
          <p:nvPr/>
        </p:nvPicPr>
        <p:blipFill>
          <a:blip r:embed="rId1"/>
          <a:stretch/>
        </p:blipFill>
        <p:spPr>
          <a:xfrm>
            <a:off x="0" y="2895480"/>
            <a:ext cx="9144000" cy="2872080"/>
          </a:xfrm>
          <a:prstGeom prst="rect">
            <a:avLst/>
          </a:prstGeom>
          <a:ln w="0">
            <a:noFill/>
          </a:ln>
        </p:spPr>
      </p:pic>
      <p:sp>
        <p:nvSpPr>
          <p:cNvPr id="67" name="Rectangle 6"/>
          <p:cNvSpPr/>
          <p:nvPr/>
        </p:nvSpPr>
        <p:spPr>
          <a:xfrm>
            <a:off x="228600" y="3581280"/>
            <a:ext cx="3048120" cy="2133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7"/>
          <p:cNvSpPr/>
          <p:nvPr/>
        </p:nvSpPr>
        <p:spPr>
          <a:xfrm>
            <a:off x="3429000" y="3581280"/>
            <a:ext cx="5410080" cy="2133720"/>
          </a:xfrm>
          <a:prstGeom prst="rect">
            <a:avLst/>
          </a:prstGeom>
          <a:noFill/>
          <a:ln w="28440">
            <a:solidFill>
              <a:srgbClr val="000000"/>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9"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 </a:t>
            </a:r>
            <a:r>
              <a:rPr b="0" lang="en-US" sz="3200" spc="-1" strike="noStrike">
                <a:solidFill>
                  <a:srgbClr val="000000"/>
                </a:solidFill>
                <a:latin typeface="Arial"/>
              </a:rPr>
              <a:t>Which parking lot is more ful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t 1: 24 of 40 spots are fill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t 2: 56 of 80 spots are fi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Group A:  2 people        5 peo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 B: 92 people      100 peopl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group’s size changed 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hoose a problem</a:t>
            </a:r>
            <a:endParaRPr b="0" lang="en-US" sz="6000" spc="-1" strike="noStrike">
              <a:solidFill>
                <a:srgbClr val="0d469b"/>
              </a:solidFill>
              <a:latin typeface="Arial"/>
            </a:endParaRPr>
          </a:p>
        </p:txBody>
      </p:sp>
      <p:sp>
        <p:nvSpPr>
          <p:cNvPr id="71" name="Right Arrow 3"/>
          <p:cNvSpPr/>
          <p:nvPr/>
        </p:nvSpPr>
        <p:spPr>
          <a:xfrm>
            <a:off x="4419720" y="4724280"/>
            <a:ext cx="609480" cy="228600"/>
          </a:xfrm>
          <a:prstGeom prst="rightArrow">
            <a:avLst>
              <a:gd name="adj1" fmla="val 50000"/>
              <a:gd name="adj2" fmla="val 4999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ight Arrow 4"/>
          <p:cNvSpPr/>
          <p:nvPr/>
        </p:nvSpPr>
        <p:spPr>
          <a:xfrm>
            <a:off x="4419720" y="5257800"/>
            <a:ext cx="609480" cy="228600"/>
          </a:xfrm>
          <a:prstGeom prst="rightArrow">
            <a:avLst>
              <a:gd name="adj1" fmla="val 50000"/>
              <a:gd name="adj2" fmla="val 49990"/>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3:53:09Z</dcterms:created>
  <dc:creator>PSteele</dc:creator>
  <dc:description/>
  <dc:language>en-US</dc:language>
  <cp:lastModifiedBy>Marian Small</cp:lastModifiedBy>
  <dcterms:modified xsi:type="dcterms:W3CDTF">2010-08-11T00:43:18Z</dcterms:modified>
  <cp:revision>238</cp:revision>
  <dc:subject/>
  <dc:title>Slide 1</dc:title>
</cp:coreProperties>
</file>